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8C1-A5D3-4BD7-8B56-3BE41B5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706-22F9-471D-96A2-132DCB95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B37-0D52-4EC6-8D4C-B8871109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8D5-8F7C-476A-A7A4-DC34F9A4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9FAC-9358-47A2-A1D8-7650E031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D364-89DA-479C-9F19-48CAE63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5BE-EBF3-4EE6-BFA5-A974043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73C7-9EEB-4838-BF6F-A7E6004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86B-CFC4-4808-A57B-D8F5E70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36B-D343-4B4C-BB2D-FDFCA80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31BC-DCE2-4EF6-A24E-D7A55CA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F6A-B004-4FE9-BD93-9455896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B55E-B9AB-4342-B010-0D008A0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5675-7FA7-4152-8AB1-9D5D54F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CF2-E65C-4412-BCDA-6ABC5F3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5963-16DE-4353-9269-EFC07705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9F5-68CD-442F-AE26-6B455B83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92E8-785C-4D7A-A484-2DB771C7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FCC3-8A67-40D3-9457-FB38AA5C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EAFF2-95CA-425E-80D8-9AED108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9A10-EE9F-4986-B7F9-B5143A6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60F7-4CEA-41A4-8B90-ABA192E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9FF-9EBE-4400-A2CA-5185298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8EAF-F549-4F61-A013-3F3019D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768B-75A3-465D-981D-510E53A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B103-4404-46F9-B332-7610E5A2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A60A-F293-4D54-91B9-2C63457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849F-73B7-4B67-885A-67F584E9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786B-7D87-48A9-932F-A7E022D6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D8EAC-C4D8-4186-9484-BF4536FB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9FCC-D1E5-4878-B15C-72CA30AD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8EAE-9C97-4AEE-9330-85E8927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D083-6680-4CE2-A79C-AC1BA11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609-54DA-4AC8-B47A-605B8FD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C46A-767E-485D-983F-BBBAB72F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E2A1-CD44-42FA-98DC-BC55B79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2E73-77B1-46F8-8B7D-EAC0FE3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4E4C-71F1-4B75-B0A1-0B6437C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4A89-D70D-4909-B956-FDDF730B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FC52-4AE0-4F8E-BF39-FCBFB0A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64CD-71BD-4A6E-9069-E7534F8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07A8-A2C0-4EFD-80DC-000E3144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BAB1-FBF9-4B06-9ADA-576BBA27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E9C-3898-4B87-B30B-304AB4D2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7AB-A34D-4F08-B476-D50B0E7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224-98D1-48DC-8530-81079E7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288-287C-4F86-ABCD-276D534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B9C-81E3-480F-AF94-D7E354F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0E87-4E9A-4841-A201-937FC415D5FB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A9C1-D321-4E91-8A9B-FCAD6D444BAA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92F-8026-4C03-B240-A9CA7B0463F8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9AA-CD70-4893-AC60-C38603DD592C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2009-2013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ivóvíz"/>
          <p:cNvPicPr/>
          <p:nvPr/>
        </p:nvPicPr>
        <p:blipFill>
          <a:blip r:embed="rId2"/>
          <a:stretch/>
        </p:blipFill>
        <p:spPr>
          <a:xfrm>
            <a:off x="3059280" y="3716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Arial"/>
              </a:rPr>
              <a:t>Hogyan történik a tisztítá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utakból érkező nyersvízhez (max. 36 m3/h) előszö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átriumhipokloritot, ezt követő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álium-permanganátot (KMnO4) maj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skloridot adagolunk, és a kevert, vegyszerezett kútviz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varchomok töltetű szűrőkre vezetjü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lór hatására a kútvizekben lévő természetes vastartalom nagy része, és az adagolt vaskloridból képződő vashidroxid pelyhek formájában kicsapódik, melyek </a:t>
            </a:r>
            <a:r>
              <a:rPr b="0" lang="hu-HU" sz="2600" spc="-1" strike="noStrike">
                <a:solidFill>
                  <a:srgbClr val="009dd9"/>
                </a:solidFill>
                <a:latin typeface="Constantia"/>
              </a:rPr>
              <a:t>adszorbeálják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a kútvíz arzéntartalmá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ol tartunk m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1.október 28. II. forduló támogatási szerződésének aláírása 228.492.000.-Ft a támogatás mértéke (9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2. december 7. önerő pályázat aláírása 25.388.000.-Ft (1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100%-os uniós és állami támogatást nyertü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Lefelé nyíl 3"/>
          <p:cNvSpPr/>
          <p:nvPr/>
        </p:nvSpPr>
        <p:spPr>
          <a:xfrm>
            <a:off x="4067280" y="4076640"/>
            <a:ext cx="57600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ol tartunk m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onstantia"/>
              </a:rPr>
              <a:t>Közbeszerzési eljárás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Műszaki ellenőr kiválasztása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Ép-Kert Mérnökiroda Kf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(2314 Halásztelek, Katona J.u.45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Projekt menedzsment kiválasztása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Tomel Kft. (3300 Eger, Pacsirta u.9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Kivitelezés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SADE-Magyarország Mélyépítő Kf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(1117 Budapest, Budafoki út 72-74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PR tevékenység: 2012. július 24-én bírál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Beruházás kivitelezésének várható megkezdé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kiviteli tervek elkészítését követően a közeljövőb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efelé nyíl 3"/>
          <p:cNvSpPr/>
          <p:nvPr/>
        </p:nvSpPr>
        <p:spPr>
          <a:xfrm>
            <a:off x="4211640" y="4941720"/>
            <a:ext cx="431640" cy="43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4617b"/>
                </a:solidFill>
                <a:latin typeface="Calibri"/>
              </a:rPr>
              <a:t>Megfelelő mennyiségű lesz-e a víz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5000"/>
            <a:ext cx="822960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 vízkezelő rendszer naponta legalább 800 m3 egészséges ivóvizet tud adni, kétoldali vízbetáplálással. Ez azt jelenti, hogy a szükséges ivóvízmennyiség egy részét községünk egyik oldalán, a Kossuth Lajos utcában lévő vízműből tervezzük az ivóvízhálózatba juttatni, a kezelt víz másik részét pedig a vízműből közvetlenül a község túlsó oldalán fekvő üdülőterület ivóvízhálózatába tervezzük juttatni, egy erre a célra tervezett nyomóvezeték megépítéséve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http://t3.gstatic.com/images?q=tbn:ANd9GcSX3cgu2nQI7ZwQ6ElF9zwQA8gwLg0yDL9gBQy-vvHtMnOrswJ8-KqoUBprxQ"/>
          <p:cNvPicPr/>
          <p:nvPr/>
        </p:nvPicPr>
        <p:blipFill>
          <a:blip r:embed="rId1"/>
          <a:stretch/>
        </p:blipFill>
        <p:spPr>
          <a:xfrm>
            <a:off x="6012000" y="4653000"/>
            <a:ext cx="18730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Content Placeholder 2" descr=""/>
          <p:cNvPicPr/>
          <p:nvPr/>
        </p:nvPicPr>
        <p:blipFill>
          <a:blip r:embed="rId1"/>
          <a:stretch/>
        </p:blipFill>
        <p:spPr>
          <a:xfrm>
            <a:off x="274680" y="1932120"/>
            <a:ext cx="8418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babra megy a játé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arzéncikkrövid1.png"/>
          <p:cNvPicPr/>
          <p:nvPr/>
        </p:nvPicPr>
        <p:blipFill>
          <a:blip r:embed="rId1"/>
          <a:stretch/>
        </p:blipFill>
        <p:spPr>
          <a:xfrm>
            <a:off x="1814400" y="2119320"/>
            <a:ext cx="547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Országos helyzetké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Content Placeholder 4" descr="arzénmagyaron.png"/>
          <p:cNvPicPr/>
          <p:nvPr/>
        </p:nvPicPr>
        <p:blipFill>
          <a:blip r:embed="rId1"/>
          <a:stretch/>
        </p:blipFill>
        <p:spPr>
          <a:xfrm>
            <a:off x="2097000" y="1935000"/>
            <a:ext cx="4950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ekkora a baj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arzén2.png"/>
          <p:cNvPicPr/>
          <p:nvPr/>
        </p:nvPicPr>
        <p:blipFill>
          <a:blip r:embed="rId1"/>
          <a:stretch/>
        </p:blipFill>
        <p:spPr>
          <a:xfrm>
            <a:off x="2238480" y="1935000"/>
            <a:ext cx="4667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!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1.) A vízkezelő berendezések és a nyomásfokozó szivattyú blokk gépészeti munkáinak beruházási költsége: 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82.240.000 Ft + 27 % ÁF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Vas(mangán)talanító, arzénmentesítő szűrő berendezés 4 db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Vegyszeradagoló berendezés 6 egység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Hálózati szivattyú 3 db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Dekantáltvíz átemelő szivattyú 2 db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Elektromos működtetés, automatika berendezései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Helyszínre szállítással, szereléssel, fertőtlenítéssel, beüzemeléssel, próbaüzemeltetéssel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Kiviteli és Megvalósulási Tervdokumentáció, valamint Kezelési-Karbantartási Utasítás készítésével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2.) Vízkezelő létesítményeinek beruházási építési költség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94.940.000 Ft + 27 % ÁF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Vízkezelő gépház beépített alapterület 9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Kezeltvíz tározó 2 db 100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Vasiszap ülepítő 32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kna 1 db 6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Udvartéri csővezetékek NÁ 200, 125 és NÁ 50 mm (földárokban fektetve) 180 f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Beton járda és út 40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250 m3-es térszíni tározó külső-belső felújítás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Üzemviteli épület teljes felújítása 7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1. és 2. számú kutak vizsgálata és szükség szerinti javítás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83763"/>
                </a:solidFill>
                <a:latin typeface="Constantia"/>
              </a:rPr>
              <a:t>Vízkezelő gépészetének és létesítményeinek beruházási költsége összese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83763"/>
                </a:solidFill>
                <a:latin typeface="Constantia"/>
              </a:rPr>
              <a:t>177.18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!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3.) Ivóvízhálózat nyomóvezetékének (2000 fm) beruházási költsége: 44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4.) Tervezés költsége: 3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5.) Próbaüzem költsége: 7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6.) Egyéb, járulékos ktg-ek: 22.700.000 Ft + 25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2" descr=""/>
          <p:cNvPicPr/>
          <p:nvPr/>
        </p:nvPicPr>
        <p:blipFill>
          <a:blip r:embed="rId1"/>
          <a:stretch/>
        </p:blipFill>
        <p:spPr>
          <a:xfrm>
            <a:off x="291960" y="1932120"/>
            <a:ext cx="84013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24:27Z</dcterms:created>
  <dc:creator>Angie2001</dc:creator>
  <dc:description/>
  <dc:language>en-US</dc:language>
  <cp:lastModifiedBy>Dr. Molnár Zsuzsanna</cp:lastModifiedBy>
  <dcterms:modified xsi:type="dcterms:W3CDTF">2012-07-18T15:33:53Z</dcterms:modified>
  <cp:revision>27</cp:revision>
  <dc:subject/>
  <dc:title>Slide 1</dc:title>
</cp:coreProperties>
</file>